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19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15456B-48C0-4904-9472-D2C3312B5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635EB6B-C45B-4FCB-9711-947C31EAE7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2C653FF-67E5-422C-B911-6B42D245C3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Num" idx="15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3B4EB2A-0334-4BC5-9169-FBE4A36116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B27BCAE-472C-403D-98A1-561B7929E0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Num" idx="1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0D9DAA9-F306-4308-9DDF-6EB08F3EC2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BFCBB84-64CB-4FB0-B353-B1BEB5F345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1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E18B770-111E-4B29-BE7A-337C27CB8E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D630667-3F26-4A07-B110-AE543C67D3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Num" idx="1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2171539-9F50-4FDF-A02F-544DE6D9B8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C6FD7EC-34BF-4904-BE44-9C4B423765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Num" idx="1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893D58F-A22D-4891-8286-4DE679931D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5DD3267-2F68-4D32-B6C7-7D8FCE76B9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Num" idx="2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74C6B38-E58A-4BA2-B627-437BDAFF3C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603199D-E826-4C75-99E5-9C2049B4DC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Num" idx="2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E012DED-B96E-4C13-8729-C898BD70E5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C85584C-E9F5-489F-AEC6-7E8DD0AA58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Num" idx="22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E87DCC7-1A55-4FBE-949A-6EEDDAB47E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34D9D2E-84C1-4905-9910-65BEDEA39C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Num" idx="23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EC1FCBB-76A8-4221-938F-0A72B4180A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C99DE0E-2D6E-4809-92DC-9D5189823E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Num" idx="24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D1DE79A-BE76-4D37-9477-5D49869BC1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8A60CD5-EBE8-416B-8CC9-3F9D323D5F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1677FCA-515A-4718-AC8D-D7ED21D3DB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0B0D132-F83B-442B-B870-6435422AD7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Num" idx="25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1FD22D7-A4F7-46FD-9380-F229001346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28F3C1B-701C-4255-8201-9A4D8E0A12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Num" idx="26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CEF34FA-8329-40B4-AB0A-AB75BA3340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F2AC455-6050-4B87-BC8F-9A3489C962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Num" idx="27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41C8458-F6A1-4541-A862-017FA06111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1BA8FB5-12D4-4EDF-80B7-49F120C66F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Num" idx="2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9E91A46-17CE-4242-B7BA-81D8A3B3BA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017779E-0FAE-4E38-9CD5-A06BC5E0C6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Num" idx="2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5B0AE94-7B02-4C7B-BFB0-ED97808D5F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3C94FC5-7E2C-49CF-A2AB-6D6A7CF6BC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0603AB6-F080-4ECB-ADD3-63AC0D9199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FE2FC1F-03D1-4FF7-90A0-0E4AF239E5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3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CD39DD9-E285-48A5-B8A3-610E79B2EF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2049EAD-49B4-4448-AA3E-3B19202220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Num" idx="8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C39B9A1-B6F5-4B5E-856C-70EC6493F2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9FA9142-D57B-4D07-A662-D74B1D8C91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4BAB3C7-56CD-42DA-90C9-43F132B812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1E22DD2-4DFB-4769-ACCA-2B632D0C56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Num" idx="1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542882F-3BF4-437F-A182-1B5F06CAEA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E996263-62F8-4FD1-9FAC-D336CB0291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3F903C46-7A91-4C72-BAB2-AD3A6E4C19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17CF651-24D3-4444-9654-79316D18E7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8DEF67C-32E2-4F58-B5E7-9F16CC85BB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2519E24-666F-4DD1-96B5-45598BB6C0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Num" idx="13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CA25734-8CDF-43E0-BFA3-0E8691558D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B767C2F-8EF9-4E67-AF15-0A30CA4828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4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D067F40A-7F0C-442F-9BA3-B3F1BFBE72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4278240" y="10156680"/>
            <a:ext cx="327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2521F72-290A-4F5A-860E-CD480BF7B4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149E-6CB7-4F36-93B7-E62CA0E1C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4085-A86C-4C32-8AD9-AC95CB32F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7D0B-954D-44C3-A967-E15B56318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E59D-7086-4520-804A-AD32B3002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F18FB-9235-459F-8B8E-A2EAAC98AC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FB79-B5FA-4250-A8B1-D46FFBCF78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2FFD6-50E2-4E26-B6EF-C28A7F60A6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A5B68-0DAD-4269-B7DB-68B4FAF3E6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0AE71-0CEA-44E6-AA38-D6126474A6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20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08292-1E47-4BFF-BFD9-3DED6E0A87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7D0F0-1A8C-4472-9D17-87F94210C8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A323D-FCEE-4D65-883B-0D85640CC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43200-B71E-4971-BD3E-62FCA5EB02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814A8-F1E7-4591-A55D-055DBE0E6B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C043B-79B4-438C-902E-3304E8608F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2A21-FDCB-462F-B7E6-3BB3510774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156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9120" y="176868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00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156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9120" y="4058640"/>
            <a:ext cx="292104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B2D1E-7E77-4F18-9F08-83CBB2D4DA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1CCE-AEFA-45B1-A9B1-FCE73746A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78E1-3915-4ED9-9A4A-285DE87AF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14AE-55BF-4C5A-9720-12BB0E0A3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20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60FC-58FC-4C25-A5E6-AE2B58160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8873-13D7-4B16-A3F4-9AA535C45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5864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0162-3CB2-4E66-AC6E-4C7F7A755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768680"/>
            <a:ext cx="44269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4058640"/>
            <a:ext cx="9072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B4D7-CAAD-4F7A-B9B4-FDA8931CF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503280" y="6886440"/>
            <a:ext cx="234612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448080" y="6886440"/>
            <a:ext cx="31935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66607F8-DDE5-47D4-9345-82DEDEAD085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503280" y="6886440"/>
            <a:ext cx="234612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448080" y="6886440"/>
            <a:ext cx="31935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p>
            <a:pPr indent="0">
              <a:lnSpc>
                <a:spcPct val="93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разец заголовка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1976400" y="5916600"/>
            <a:ext cx="6048000" cy="8870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Образец текста</a:t>
            </a: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65037F2-CD0E-46EA-89C2-AB783086DB9C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503280" y="306360"/>
            <a:ext cx="907056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204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360360" y="3494160"/>
            <a:ext cx="597492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Единый урок памя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к 75-летию Великой Победы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3397320" y="6351480"/>
            <a:ext cx="4357440" cy="999720"/>
          </a:xfrm>
          <a:prstGeom prst="rect">
            <a:avLst/>
          </a:prstGeom>
          <a:noFill/>
          <a:ln w="9525">
            <a:solidFill>
              <a:srgbClr val="aae2ca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SimSun"/>
              </a:rPr>
              <a:t>Презентация для 1 класс МБОУ СОШ № 7 им Кошевого Ф. А. Учитель Николаева В.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896760" y="5708520"/>
            <a:ext cx="813708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Все люди поднялись на защиту своей Род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1325520" y="779400"/>
            <a:ext cx="7429320" cy="4737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5969160" y="350640"/>
            <a:ext cx="3733560" cy="575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253800" y="2779560"/>
            <a:ext cx="5234040" cy="3580920"/>
          </a:xfrm>
          <a:prstGeom prst="rect">
            <a:avLst/>
          </a:prstGeom>
          <a:ln w="9525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0" y="851040"/>
            <a:ext cx="57542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а фронт шли не только воины нашей армии, но даже дети нередко убегали из дома, чтобы воевать с фашис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3683160" y="755640"/>
            <a:ext cx="5643360" cy="58100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287280" y="1042920"/>
            <a:ext cx="27363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0" y="1116000"/>
            <a:ext cx="309528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Первыми приняли на себя удар фашистского нашествия пограничники. Они оказали врагу героическое сопроти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74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5397480" y="755640"/>
            <a:ext cx="4682880" cy="32785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0" y="779400"/>
            <a:ext cx="33969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Воины писали на стенах Брестской крепости «Умрём, но из крепости не уйдё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4" descr="ekz1.jpg"/>
          <p:cNvPicPr/>
          <p:nvPr/>
        </p:nvPicPr>
        <p:blipFill>
          <a:blip r:embed="rId3"/>
          <a:stretch/>
        </p:blipFill>
        <p:spPr>
          <a:xfrm>
            <a:off x="0" y="3351240"/>
            <a:ext cx="63972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-7920"/>
            <a:ext cx="10080360" cy="756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6826320" y="4137120"/>
            <a:ext cx="2928600" cy="25221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0" y="779400"/>
            <a:ext cx="3325320" cy="60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Осенью 1941 года фашисты начали наступление на Москву- на столицу нашей Родины. Гитлер приказал взять Москву любой ценой. Немецкие генералы готовили свои войска к параду на Красной площ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3397320" y="851040"/>
            <a:ext cx="5289120" cy="3285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1325520" y="851040"/>
            <a:ext cx="7450200" cy="450036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"/>
          <p:cNvSpPr/>
          <p:nvPr/>
        </p:nvSpPr>
        <p:spPr>
          <a:xfrm>
            <a:off x="216000" y="3476520"/>
            <a:ext cx="943272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Парад на Красной площади состоялся, но не тот, о котором мечтал Гит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3095640" y="826920"/>
            <a:ext cx="6735240" cy="5238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"/>
          <p:cNvSpPr/>
          <p:nvPr/>
        </p:nvSpPr>
        <p:spPr>
          <a:xfrm>
            <a:off x="216000" y="971640"/>
            <a:ext cx="287928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7 нояб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1941 года состоялся традиционный парад советских войск. И прямо с парада бойцы уходили на фро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2"/>
          <p:cNvSpPr/>
          <p:nvPr/>
        </p:nvSpPr>
        <p:spPr>
          <a:xfrm>
            <a:off x="2540160" y="1692360"/>
            <a:ext cx="5236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«Велика Россия, а отступать некуда, позади – Москва- так говорили наши бойцы и стояли насмерть. И они выстояли. После окончания войны городу Москве было присвоено звание «Город-гер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4230720" y="755640"/>
            <a:ext cx="5538600" cy="359532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4489560" y="3208320"/>
            <a:ext cx="55908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а войне сражались не только мужчины, но и жен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0" y="3734640"/>
            <a:ext cx="4825800" cy="298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6326280" y="851040"/>
            <a:ext cx="3317400" cy="4546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468360" y="993600"/>
            <a:ext cx="4357440" cy="43574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863640" y="3476520"/>
            <a:ext cx="8280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Они были медсестрами, врачами, связистами, разведч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503280" y="282600"/>
            <a:ext cx="90691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  <a:ea typeface="SimSu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1800360" y="900000"/>
            <a:ext cx="7488000" cy="4584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19280" y="5651640"/>
            <a:ext cx="8784720" cy="1152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На рассвете 22 июня 1941 года, на мирные, ещё спящие города и села нашей Родины, с аэродромов поднялись в воздух немецкие самолеты с бомбами.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2376360" y="826920"/>
            <a:ext cx="7198920" cy="5040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3"/>
          <p:cNvSpPr/>
          <p:nvPr/>
        </p:nvSpPr>
        <p:spPr>
          <a:xfrm>
            <a:off x="360360" y="1116000"/>
            <a:ext cx="201564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Многих солдат спасли от смерти добрые женские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1440000" y="250920"/>
            <a:ext cx="8349840" cy="521928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3"/>
          <p:cNvSpPr/>
          <p:nvPr/>
        </p:nvSpPr>
        <p:spPr>
          <a:xfrm>
            <a:off x="1295280" y="3476520"/>
            <a:ext cx="849744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 в тылу старики, женщины, дети работали на заводах и фабр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3468600" y="2208240"/>
            <a:ext cx="6611760" cy="4431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3"/>
          <p:cNvSpPr/>
          <p:nvPr/>
        </p:nvSpPr>
        <p:spPr>
          <a:xfrm>
            <a:off x="253800" y="851040"/>
            <a:ext cx="3314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И днем и ночью делали снаряды, оружие для фронта, шили обмундирование для армии и многое друг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2968560" y="993600"/>
            <a:ext cx="6907680" cy="52858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3"/>
          <p:cNvSpPr/>
          <p:nvPr/>
        </p:nvSpPr>
        <p:spPr>
          <a:xfrm>
            <a:off x="287280" y="900000"/>
            <a:ext cx="259200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ойна длилась долгих четыре года. Наша доблестная армия не только прогнала немцев с нашей земли, но и освободила народы других стран, захваченных гитлеровской Герман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74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5254560" y="779400"/>
            <a:ext cx="4512240" cy="323964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3"/>
          <p:cNvSpPr/>
          <p:nvPr/>
        </p:nvSpPr>
        <p:spPr>
          <a:xfrm>
            <a:off x="216000" y="1042920"/>
            <a:ext cx="25207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SimSu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ши солдаты дошли до Берлина — столицы Германии. И там, на самом главном здании, которое называлось Рейхстагом, был водружен наш флаг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2825640" y="3994200"/>
            <a:ext cx="4473720" cy="2800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2754360" y="1208160"/>
            <a:ext cx="7137360" cy="48844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3"/>
          <p:cNvSpPr/>
          <p:nvPr/>
        </p:nvSpPr>
        <p:spPr>
          <a:xfrm>
            <a:off x="216000" y="1042920"/>
            <a:ext cx="2520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 24 июня 1945 года в Москве состоялся парад Победы, на котором к стенам Кремля были брошены фашистские фл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"/>
          <p:cNvSpPr/>
          <p:nvPr/>
        </p:nvSpPr>
        <p:spPr>
          <a:xfrm>
            <a:off x="4896000" y="3089160"/>
            <a:ext cx="5184360" cy="38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SimSun"/>
              </a:rPr>
              <a:t>9 мая 1945 года закончилась война, и тот день стал самым светлым и любимым праздником — Днем Победы! Во многих городах нашей страны прогремели залпы победного салю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119960" cy="7559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800360" y="826920"/>
            <a:ext cx="7811640" cy="4749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76360" y="5580000"/>
            <a:ext cx="7519680" cy="1618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SimSun"/>
              </a:rPr>
              <a:t>Воздух наполнился рокотом моторов, танков и грузовиков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655640" y="684360"/>
            <a:ext cx="7848360" cy="48654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03280" y="2843280"/>
            <a:ext cx="8640360" cy="35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Немецко-фашистская Германия вероломно, без объявления войны, напала на нашу стр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2232000" y="826920"/>
            <a:ext cx="7272000" cy="45097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576360" y="3476520"/>
            <a:ext cx="842436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Фашистские самолеты бомбили города и по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792000" y="1547640"/>
            <a:ext cx="7992720" cy="49557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431640" y="900000"/>
            <a:ext cx="9897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аэродромы и железнодорожные ст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2160720" y="900000"/>
            <a:ext cx="7164000" cy="42987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503280" y="1619280"/>
            <a:ext cx="864036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Бомбы сыпались на пионерские лагеря, детские с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720720" y="1079640"/>
            <a:ext cx="8640360" cy="54003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1295280" y="1042920"/>
            <a:ext cx="704196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SimSun"/>
              </a:rPr>
              <a:t>На больницы и жилые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360" cy="755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5326200" y="779400"/>
            <a:ext cx="3930120" cy="59529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3"/>
          <p:cNvSpPr/>
          <p:nvPr/>
        </p:nvSpPr>
        <p:spPr>
          <a:xfrm>
            <a:off x="360360" y="755640"/>
            <a:ext cx="38872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2800" spc="-1" strike="noStrike">
                <a:solidFill>
                  <a:schemeClr val="accent4"/>
                </a:solidFill>
                <a:latin typeface="Arial"/>
                <a:ea typeface="SimSun"/>
              </a:rPr>
              <a:t>Фашистская Германия хотела уничтожить весь народ нашей страны. В те грозные дни начала Великой Отечественной войны, словно клятва Родине, звучала песня «Священная вой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  <Words>432</Words>
  <Paragraphs>1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44:59Z</dcterms:created>
  <dc:creator/>
  <dc:description/>
  <dc:language>en-US</dc:language>
  <cp:lastModifiedBy>Lenovo</cp:lastModifiedBy>
  <cp:lastPrinted>1601-01-01T00:00:00Z</cp:lastPrinted>
  <dcterms:modified xsi:type="dcterms:W3CDTF">2020-05-08T06:27:42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6</vt:r8>
  </property>
  <property fmtid="{D5CDD505-2E9C-101B-9397-08002B2CF9AE}" pid="3" name="PresentationFormat">
    <vt:lpwstr>Произвольный</vt:lpwstr>
  </property>
  <property fmtid="{D5CDD505-2E9C-101B-9397-08002B2CF9AE}" pid="4" name="Slides">
    <vt:r8>27</vt:r8>
  </property>
</Properties>
</file>